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83AE-28D6-4C81-97C3-FDD3A9C4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CD83-5FFF-472F-AED5-4AF58C1B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5A96-DC1C-48BB-ABA4-BC7E3984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4855-8FDF-4A05-85E4-51EA190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54E4-FC14-40D1-B5C5-AB7CA790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D67A-9504-44E0-B0B7-C7ECC90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783B-D13F-4785-9534-7D4F62A1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B6D4-6FB1-4FFA-8521-AF1F6158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23C4-802B-48F2-A0AB-613832E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DC5D-2E7E-40D1-BC77-5757DC1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0E81-9388-46BF-AB1A-C3B07EE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C04C-B35D-4AD2-8124-425B452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31B-3A2B-4E5E-B311-05766F45FC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Image:HueyPLon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icalvoices.org/fli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12.2:  The Second New Deal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ocial Security"/>
          <p:cNvPicPr/>
          <p:nvPr/>
        </p:nvPicPr>
        <p:blipFill>
          <a:blip r:embed="rId1"/>
          <a:stretch/>
        </p:blipFill>
        <p:spPr>
          <a:xfrm>
            <a:off x="152280" y="22320"/>
            <a:ext cx="883764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.  Critics of New Dea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  Right wing/Conservatives (Republican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Deficit spending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needed to support programs; not goo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usiness regulated too much b gov’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Political Left/Liberals (Democrat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anted more for the middle cl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8" name="Picture 6" descr="http://herb.ashp.cuny.edu/files/download/443/fullsize"/>
          <p:cNvPicPr/>
          <p:nvPr/>
        </p:nvPicPr>
        <p:blipFill>
          <a:blip r:embed="rId1"/>
          <a:stretch/>
        </p:blipFill>
        <p:spPr>
          <a:xfrm>
            <a:off x="4826160" y="1981080"/>
            <a:ext cx="43178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.  Senator Huey Long (L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are our Wealth” club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ake from the rich, give to the po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94000" y="22003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94000" y="22003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Picture 6" descr="Huey Lo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211480"/>
            <a:ext cx="36576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C.  Programs under the 2</a:t>
            </a:r>
            <a:r>
              <a:rPr b="0" lang="en-US" sz="3600" spc="-1" strike="noStrike" baseline="30000">
                <a:solidFill>
                  <a:srgbClr val="675e47"/>
                </a:solidFill>
                <a:latin typeface="Cambria"/>
              </a:rPr>
              <a:t>nd</a:t>
            </a: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 New Deal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  Works Progress Administration (WPA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argest public works program; &gt; $11 B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ut 8.5 million to wor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 Federal Number O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ogram for artists, musicians, theater people, and writ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6" descr="http://creativecapital.files.wordpress.com/2008/11/newdeal.jpg"/>
          <p:cNvPicPr/>
          <p:nvPr/>
        </p:nvPicPr>
        <p:blipFill>
          <a:blip r:embed="rId1"/>
          <a:stretch/>
        </p:blipFill>
        <p:spPr>
          <a:xfrm>
            <a:off x="4238640" y="1670040"/>
            <a:ext cx="4905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.  Supreme Court React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36840"/>
            <a:ext cx="38862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elt the following Acts were unconstitution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A: should be regulated by state not federal gov’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RA: gov’t only allowed to regulate interstate commerce and not have business regul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.  Labor Reform: Wagner Ac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.  AKA National Labor Relations Boar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d right to unioniz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istens to claims of unfair labor practices = binding arbitr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day: acts as mediator between workers/unions and employ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 Congress of Industrial Organization (CIO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ganized skilled and unskilled workers in the auto and steel indust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.  Sit down Strik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76520" y="990720"/>
            <a:ext cx="53575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hey smile and say, no raise in pa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t down! Sit down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you want the boss to come acro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t down! Sit down!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- Sit-down strikers' song of the 1930s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6" name="Picture 4" descr="flint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19320"/>
            <a:ext cx="49528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.  Social Security A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surance for the retir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- 65 y/o or medically retired; worker and spou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employment Benefi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id by employ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Social Security Online - The Official Website of the Social Security Administration"/>
          <p:cNvPicPr/>
          <p:nvPr/>
        </p:nvPicPr>
        <p:blipFill>
          <a:blip r:embed="rId1"/>
          <a:stretch/>
        </p:blipFill>
        <p:spPr>
          <a:xfrm>
            <a:off x="304920" y="5257800"/>
            <a:ext cx="4647960" cy="94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sp.life123.com/bm.pix/understanding-social-security-senior-couple.s600x600.jpg"/>
          <p:cNvPicPr/>
          <p:nvPr/>
        </p:nvPicPr>
        <p:blipFill>
          <a:blip r:embed="rId2"/>
          <a:stretch/>
        </p:blipFill>
        <p:spPr>
          <a:xfrm>
            <a:off x="4216320" y="1219320"/>
            <a:ext cx="4765680" cy="316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ts2.mm.bing.net/images/thumbnail.aspx?q=1342940066929&amp;id=29737145250c2595ffcfd01a2ca87821&amp;url=http%3a%2f%2faboutfacts.net%2fElse%2fE289%2fPD%2fSocial_Security_card.jpg"/>
          <p:cNvPicPr/>
          <p:nvPr/>
        </p:nvPicPr>
        <p:blipFill>
          <a:blip r:embed="rId3"/>
          <a:stretch/>
        </p:blipFill>
        <p:spPr>
          <a:xfrm>
            <a:off x="5410080" y="4572000"/>
            <a:ext cx="2857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6" name="Picture 8" descr="http://dailynewspulse.com/wp-content/uploads/2011/02/Social-Security.jpg"/>
          <p:cNvPicPr/>
          <p:nvPr/>
        </p:nvPicPr>
        <p:blipFill>
          <a:blip r:embed="rId1"/>
          <a:stretch/>
        </p:blipFill>
        <p:spPr>
          <a:xfrm>
            <a:off x="0" y="573120"/>
            <a:ext cx="91328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1:37:26Z</dcterms:created>
  <dc:creator> </dc:creator>
  <dc:description/>
  <dc:language>en-US</dc:language>
  <cp:lastModifiedBy>SUPER</cp:lastModifiedBy>
  <dcterms:modified xsi:type="dcterms:W3CDTF">2011-12-12T02:21:36Z</dcterms:modified>
  <cp:revision>9</cp:revision>
  <dc:subject/>
  <dc:title>12.2:  The Second New Deal</dc:title>
</cp:coreProperties>
</file>